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0A3B-C368-4F61-90C4-C74F438B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CEFF-2934-49FF-A496-339FE8CB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5D7F-3CF2-4C3D-B4ED-26611FEC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F5D-765F-43A8-A5BC-8D562F70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17D-3345-465D-83E6-C4180FC0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2757-88C4-4251-8B80-795B1511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D77-0D3E-4C14-A033-A29923C2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52C-6368-41AF-B456-2B1E0EF6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A99-74F4-4D95-9C99-C1A81FBA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448-A1CE-46AE-B145-868CC08A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FCDE-109D-488C-9121-7BFB994C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C7C-243D-481B-8ECE-2ECCBC83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8292-4917-458D-B1F3-705FD88E7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4 Dôveruj mi v každý č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ôveruj mi v každý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znie lásky Božej hl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ti cestu zastrie mra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ebu obráť viery zra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, ty ma vedieš,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eba sa spoľahn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labosti ma posilu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ím slovom: Dôveru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obzor halí tm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be hľadím s dôver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lu k boju, víťazstv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od teba získav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, ty ma vedieš,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eba sa spoľahn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labosti ma posilu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ím slovom: Dôveru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ma, Pane láskav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Duch mocne oslov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žbe mojej dodá vzl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vojej sile kráčam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, ty ma vedieš,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eba sa spoľahn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labosti ma posilu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ím slovom: Dôveruj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10:22:16Z</dcterms:modified>
  <cp:revision>20</cp:revision>
  <dc:subject/>
  <dc:title>Je veľký náš Pán, on slávy je Kráľ Nech do všetkých strán  spev vrúcnych znie chvál.</dc:title>
</cp:coreProperties>
</file>